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381-4FC2-4730-A6B4-31F9CF16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167-BD5B-4367-B39B-7CCA1476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6C1-DDE7-4A0E-B006-5C640324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F0F-F9E9-4DBB-BDF1-38B02CF5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BD6A-31C2-4401-A338-E376FD5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D62E-EA1F-4DBA-907E-DF79EB3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22A3-09FF-414A-B959-B07A0B26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5CFE-F6AA-4917-BD57-895E787D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F53C-D548-40FB-B3CE-49619938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9AE8-444D-44BB-971A-58EDF663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2A70-D0BD-4028-BE0B-7ED1676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B87-53CB-4C2D-9A0A-BE8F0D60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9BAE-62AF-49C3-9696-52F74DA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4753-852D-48B2-933B-07371FC2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46DE-9551-4630-A0EC-325F4879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017B-2F3C-44D4-99FA-DB51D5B8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EBFE-7209-4D4B-B156-DD8065D5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EFD9-A52A-446A-84BB-C3EFCFA0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AF33-14B8-4522-A2B7-BF2D0808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8CDE-EABE-457B-A9D4-08FF64E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B39D-DB39-447B-93BF-529BE583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CE29-E8AF-4A1B-ADA3-BB80023F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58E-5A35-46F6-A652-C408EA3F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9618-4627-41B1-A808-17C0F6CB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D4B6-D456-4CA1-83BB-BC260903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EBC5-48C2-42DA-8E56-2251041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ED6F-DB2F-4015-9625-21BC75D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8946-9C6C-464D-B02B-F16EB9FF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F9E9-5827-4B87-9F7A-ED15C215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D2DD-1605-4AC9-80C1-8BB52945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EC2D-8D65-49A7-9549-D26F9C5B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1FF7-6B57-412A-998E-B0961F5C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E063-CDBE-44AE-8746-26A43406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9FA-5C60-414F-B3C4-A3B3E1A8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65D7-CD80-4A58-BA14-A4F2DE6B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66F8-7C3D-4683-A279-1B79E54A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12ED-1104-43E8-A075-4331974C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3644-E3A4-471D-A477-B858EF96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6C444-00BF-4ED2-B2A2-2FAAFE13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11CF-AC39-4CEF-A9A6-9C49D43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C335-A81C-4860-9614-9A9D282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6D0E-2ACF-46E1-BA11-00AE902D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F923-6FEE-48FF-B46A-ADEA68F0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FD78-926A-47CE-84D0-BE63E78B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C15-A873-4C14-B1B2-AAE9C42A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BB7D-4B47-4ABE-89B1-4201B0FB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2B0D2-77A1-430D-9F0C-E01287C8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B623B-67DC-4E10-82DD-80B5F1A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4E31F-98EB-47F6-8503-91F6017F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54E51-DEDD-4897-9067-1B5244AD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B9676-760C-4A2C-B1D7-C1210BB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DB729-237C-4064-8B31-0D395B6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35E8-9976-4A89-BE74-0C6FC7E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4413-B336-409B-8353-9661F7F3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EBF45-9126-4F1F-9299-A4D0CF7B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E1B-56B6-49ED-B8BF-2683F744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6F3FC-B422-48FC-9C51-F1D53222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98A1D-10AB-4BB7-ABA1-CDCDFBC6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4BB44-E93A-4F96-85E9-DF9560A4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16D8-A4D4-4DD1-B216-ACA35BE2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1089-DD8C-402A-85F5-FA8FD9C9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A1B79-FA30-4D68-9C78-0113BD26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5E29-AEBC-45D8-9ACB-AC0C90FA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7273-884A-4D81-A042-4C49986A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42BC-F049-42C0-AB8A-D071306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B2346-9093-4B09-9A6B-D58E613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38F-F212-4AFD-B766-D8E73D76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6E979-D0D0-4B34-A41B-AB2B6C9A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EC4DF-2466-4323-B8C6-D618DF49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E534C-6F3E-4176-8B2D-EF67ECEE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2BDF4-BE98-495D-AFAA-EBA736F8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8E1A-F41E-4F2E-81D0-86EB3FA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20326-8B37-4D49-9095-9BD6C6C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02E7-C3B5-43BD-B34E-EA4F2C3E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EC6ED-7410-4F76-B214-3E790D52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D491-CA93-4DCF-A4DD-C026363B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AC7C5-F81A-4844-A9C2-D1BE1F0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FA5-D5DD-4B5C-AFF8-D1E686C2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F0BFA-14C9-4E41-A52D-5B6CE4E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916D-C101-4D41-8330-A316CFAD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90465-5491-4EDF-84AC-616875AF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1200-415B-4637-A32E-D91D4D94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A3386-4B88-4179-9542-81FE65DB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6DA-939C-4B29-A6CF-06E0DFA7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32804_1.jpg"/>
          <p:cNvPicPr/>
          <p:nvPr/>
        </p:nvPicPr>
        <p:blipFill>
          <a:blip r:embed="rId3"/>
          <a:stretch/>
        </p:blipFill>
        <p:spPr>
          <a:xfrm>
            <a:off x="0" y="5497560"/>
            <a:ext cx="1793880" cy="136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404B-C7B4-45BD-BB25-F4B13DA334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8" descr="132804_1.jpg"/>
          <p:cNvPicPr/>
          <p:nvPr/>
        </p:nvPicPr>
        <p:blipFill>
          <a:blip r:embed="rId3"/>
          <a:stretch/>
        </p:blipFill>
        <p:spPr>
          <a:xfrm>
            <a:off x="571680" y="4286160"/>
            <a:ext cx="2827080" cy="2146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940A-470C-44B7-B1B4-CA209DF52D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A2F-3A31-4887-95B3-1E4ACFF51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8" descr="132804_1.jpg"/>
          <p:cNvPicPr/>
          <p:nvPr/>
        </p:nvPicPr>
        <p:blipFill>
          <a:blip r:embed="rId3"/>
          <a:stretch/>
        </p:blipFill>
        <p:spPr>
          <a:xfrm>
            <a:off x="0" y="285840"/>
            <a:ext cx="1357200" cy="10303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F7B-26B5-4654-B773-38CA28C23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9BB6-7DFD-4AAC-A892-2F84CE39A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4F18-78F1-427E-A556-40A61E221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DEFD-BA5D-49FE-8BFC-C9B052CAA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й проек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ире поэз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500200" y="2999880"/>
            <a:ext cx="578664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Участники проекта – команда «Книголюбы», учащиеся 6 «А» МБОУ «Верховажская средняя школа имени Я.Я.Кремле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C:\Users\User\Documents\logo.gif"/>
          <p:cNvPicPr/>
          <p:nvPr/>
        </p:nvPicPr>
        <p:blipFill>
          <a:blip r:embed="rId1"/>
          <a:stretch/>
        </p:blipFill>
        <p:spPr>
          <a:xfrm>
            <a:off x="714240" y="714240"/>
            <a:ext cx="1381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 стихотвор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85716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928440"/>
            <a:ext cx="4041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ермо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357800" y="1428840"/>
            <a:ext cx="46432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й верши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динокой, пустынной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а снегом сыпучим, как ризой (риза – верхняя одежда священника, надеваемая во время богослуж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…прекрасная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тёсе горючем ( горючий – от горе, горестны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428840"/>
            <a:ext cx="36147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ев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холодной верш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ым покрывалом окутывают её лёд и сн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око и молча печал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ылающей скале (огненной, горящей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929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900000" y="1139760"/>
            <a:ext cx="72820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img-fotki.yandex.ru/get/5903/zomka.222/0_61638_db164b6b_L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komus.ru/photo/full/132804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книги, перо, чернильни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elcanto.ru/media/images/publication/14100625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1.culture.ru/c/25603.688x39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то с. Тарх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0508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бабушки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110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 в дет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bornik-stihov.ru/grafika5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Генриха Ге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рмонтов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хаил Юрьевич Лермо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814-18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ын страдань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500040" y="1500120"/>
            <a:ext cx="34830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М.Лермонтова прошло в с.Тарханы Пензенской губер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3762360" y="1434960"/>
            <a:ext cx="49244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ель (так называли его близкие люди) рано потерял мать. Воспитанием мальчика занималась бабушка, Елизавета Алексее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3924360" y="85392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безграничную любовь бабушки, мальчик часто чувствовал себя одиноким и несчас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Рисунок 1" descr=""/>
          <p:cNvPicPr/>
          <p:nvPr/>
        </p:nvPicPr>
        <p:blipFill>
          <a:blip r:embed="rId1"/>
          <a:stretch/>
        </p:blipFill>
        <p:spPr>
          <a:xfrm>
            <a:off x="4226040" y="706320"/>
            <a:ext cx="3809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117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в детстве занимался музыкой, рисованием, шахматами, литератур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обенно немецкой). Он словно чувствовал, что жизнь его будет короткой. А ему так много нужно успе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4211640" y="1125360"/>
            <a:ext cx="381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60436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0400" y="713880"/>
            <a:ext cx="3686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3880" y="1143000"/>
            <a:ext cx="45975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На голой вершине со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емлет, качаясь, и снегом сыпучи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Одета, как ризой,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ится ей все, что в пустыне далек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В том крае, где солнца восхо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 на утесе горюч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Прекрасная пальма 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5" descr="i (1).jpg"/>
          <p:cNvPicPr/>
          <p:nvPr/>
        </p:nvPicPr>
        <p:blipFill>
          <a:blip r:embed="rId1"/>
          <a:stretch/>
        </p:blipFill>
        <p:spPr>
          <a:xfrm>
            <a:off x="5429160" y="1714680"/>
            <a:ext cx="3400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3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8760" y="1642680"/>
            <a:ext cx="4883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ая, груст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думает, сн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тся ей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03000" y="2738880"/>
            <a:ext cx="2910240" cy="28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он, рад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Выноска-облако 8"/>
          <p:cNvSpPr/>
          <p:nvPr/>
        </p:nvSpPr>
        <p:spPr>
          <a:xfrm>
            <a:off x="5857920" y="2714760"/>
            <a:ext cx="1071360" cy="571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ыноска-облако 11"/>
          <p:cNvSpPr/>
          <p:nvPr/>
        </p:nvSpPr>
        <p:spPr>
          <a:xfrm>
            <a:off x="6786720" y="3071880"/>
            <a:ext cx="13572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12"/>
          <p:cNvSpPr/>
          <p:nvPr/>
        </p:nvSpPr>
        <p:spPr>
          <a:xfrm>
            <a:off x="4714920" y="3357720"/>
            <a:ext cx="11430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13"/>
          <p:cNvSpPr/>
          <p:nvPr/>
        </p:nvSpPr>
        <p:spPr>
          <a:xfrm>
            <a:off x="6786720" y="4357800"/>
            <a:ext cx="1285560" cy="785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Выноска-облако 14"/>
          <p:cNvSpPr/>
          <p:nvPr/>
        </p:nvSpPr>
        <p:spPr>
          <a:xfrm>
            <a:off x="4857840" y="4643280"/>
            <a:ext cx="1428840" cy="571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а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Выноска-облако 15"/>
          <p:cNvSpPr/>
          <p:nvPr/>
        </p:nvSpPr>
        <p:spPr>
          <a:xfrm>
            <a:off x="5643720" y="3500280"/>
            <a:ext cx="1285560" cy="1000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шев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Выноска-облако 16"/>
          <p:cNvSpPr/>
          <p:nvPr/>
        </p:nvSpPr>
        <p:spPr>
          <a:xfrm>
            <a:off x="6000840" y="5429160"/>
            <a:ext cx="150012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5437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 - отражение мысл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284720" y="246240"/>
            <a:ext cx="44020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севере диком…» по сути это не авторское стихотворение — это перевод лирической миниатюры немецкого романтика Генриха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на холодной верш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ремлет, белым покрыва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тывают её лёд и сне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ечтает о пальм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далеко на восто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о и молча печали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ылающей ска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5148360" y="3381480"/>
            <a:ext cx="2373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7:56:24Z</dcterms:created>
  <dc:creator>User</dc:creator>
  <dc:description/>
  <dc:language>en-US</dc:language>
  <cp:lastModifiedBy>user</cp:lastModifiedBy>
  <dcterms:modified xsi:type="dcterms:W3CDTF">2015-10-30T08:47:02Z</dcterms:modified>
  <cp:revision>25</cp:revision>
  <dc:subject/>
  <dc:title>         Сетевой проект  «В мире поэзии»</dc:title>
</cp:coreProperties>
</file>